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F32-DCB7-4491-B47F-6B547B69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05B-D7D2-45DB-97FD-B1E75AEA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413-EBF4-454B-8D8C-87D84D13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098-3A04-4793-BD24-02010BF6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D8B4-588B-4366-B51A-479C5DB7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A2F9-0E61-473F-9424-F6ECC81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F8A6-D633-4469-9EF3-0AD3F7DA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E427-6121-4643-9BFB-7895827D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16C7-DDE3-4F55-B1A5-002029D1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BD45-AD29-4B9F-8190-335613D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582-502A-4711-912D-F887790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A3B-FA9D-47ED-B08E-0780ABE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3DFA-A0B9-42CE-B13C-F2B8604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32B0-9F4E-46A8-9437-3157F90B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2A73-D045-4624-93D9-B42D050A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F658-7BB0-431D-8CA1-A5D8FA11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65CF-4F8F-471A-97A3-FA56A01E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57E-4656-40BE-BEF8-A10E0D3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F36-F1A9-45A5-B439-F6740FB9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955-6967-41A1-8EFD-098C0A3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89C-D4AB-4B10-935A-7EEA61EF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600-371C-4E9A-8CF2-6739158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7A2-729F-4045-8C6D-97652F1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3A6-950C-4A15-ACF1-67D8E1E2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0733-7D94-48E7-93DE-EBE835642A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B066-6D32-4F21-A4DA-9ACCF5C562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_-ga-XGJJ7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baR5HeojBHc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japan_wha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ristopher Macia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ese Wh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whalemeatstockpileGraph"/>
          <p:cNvPicPr/>
          <p:nvPr/>
        </p:nvPicPr>
        <p:blipFill>
          <a:blip r:embed="rId1"/>
          <a:stretch/>
        </p:blipFill>
        <p:spPr>
          <a:xfrm>
            <a:off x="0" y="1295280"/>
            <a:ext cx="5029200" cy="556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inke-whale-meat-big"/>
          <p:cNvPicPr/>
          <p:nvPr/>
        </p:nvPicPr>
        <p:blipFill>
          <a:blip r:embed="rId2"/>
          <a:stretch/>
        </p:blipFill>
        <p:spPr>
          <a:xfrm>
            <a:off x="5029200" y="12952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 Availabl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t of wh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rings tons mor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an any other mammal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eat amount of mea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2006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bout 4,700 tons of mea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re caught by 2006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s is just the unsold mea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Jap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whale_minke_caught_net_japan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486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Size of Wha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Each whale can be easily up to 15 tons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whale_species_comparison_chart"/>
          <p:cNvPicPr/>
          <p:nvPr/>
        </p:nvPicPr>
        <p:blipFill>
          <a:blip r:embed="rId2"/>
          <a:stretch/>
        </p:blipFill>
        <p:spPr>
          <a:xfrm>
            <a:off x="4876920" y="137160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whale_spill_1.jpg image by rhodilee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http://www.environment.gov.au/coasts/publications/images/whales-full-size.jpg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blue-whale.info/Blue_whale_size_comparison.GIF"/>
          <p:cNvPicPr/>
          <p:nvPr/>
        </p:nvPicPr>
        <p:blipFill>
          <a:blip r:embed="rId3"/>
          <a:stretch/>
        </p:blipFill>
        <p:spPr>
          <a:xfrm>
            <a:off x="0" y="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arpooned_whale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pooning Wh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asically just shoot the whale with a giant spear called a harpoon and real the whale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youtube.com/watch?v=_-ga-XGJJ7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aolnews.com/world/article/japanese-ship-detains-anti-whaling-activist-peter-bethune/193585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guardian.co.uk/environment/2010/jan/06/japan-whaling-sea-shepherd-green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en.wikipedia.org/wiki/Whaling_in_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ehow.com/about_5009827_what-whales-used-today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animallaw.info/articles/ovuswhalelaw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id it star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t has begun in the early  12</a:t>
            </a:r>
            <a:r>
              <a:rPr b="0" lang="en-US" sz="32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apan was heavily involved in the 20</a:t>
            </a:r>
            <a:r>
              <a:rPr b="0" lang="en-US" sz="32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centur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world war Japan's whaling was limited to more common hunting gr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nin Is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vide meat and oil for domestic and military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id it start? C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ling there was stopped in March 1945 when the islands were taken by US fo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November 1945 the whaling stations got permission to reop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haling ships were taken by the Japanese nav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the war, the factories ships and most of the caught boats had been su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ing Wha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Japan-whaling-footage-horrifying-Debus-1"/>
          <p:cNvPicPr/>
          <p:nvPr/>
        </p:nvPicPr>
        <p:blipFill>
          <a:blip r:embed="rId1"/>
          <a:stretch/>
        </p:blipFill>
        <p:spPr>
          <a:xfrm>
            <a:off x="5638680" y="1143000"/>
            <a:ext cx="35053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o Can Whal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earliest were the Vik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n Spain, France, Engla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nd the Nether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aling is strictly restri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o Institute of Cetac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search.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nd other institutions.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Figure1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43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they use Whale fo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at- often serve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w and choppe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to steak slic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lubber- burnt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wn used for oil, make up, soap, giving stuff a glossy look. Also fuel for lamps and machine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e- boiled for glue, smashed down for fertilizer, also made in to too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whaling is used for? C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bergris- very expensive, used in perfumes, disposed of in ocean as was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fic Research- see if whaling can be done sustainably, many countries disapprove of commercial whal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6a00d8341c630a53ef0120a7ad8d17970b-600wi"/>
          <p:cNvPicPr/>
          <p:nvPr/>
        </p:nvPicPr>
        <p:blipFill>
          <a:blip r:embed="rId1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apanese whaling Bo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ass wha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ssels to prev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from kil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oat cost $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oat was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dy G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Ady-Gil-001"/>
          <p:cNvPicPr/>
          <p:nvPr/>
        </p:nvPicPr>
        <p:blipFill>
          <a:blip r:embed="rId1"/>
          <a:stretch/>
        </p:blipFill>
        <p:spPr>
          <a:xfrm>
            <a:off x="4952880" y="371484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ling Vesse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youtube.com/watch?v=baR5HeojBH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Sea Shepherd Conservation Society boat crashed with the Japanese whaling bo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rashed on Feb. 6</a:t>
            </a:r>
            <a:r>
              <a:rPr b="0" lang="en-US" sz="32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Japan-whaling-footage-horrifying-Debus-2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ling La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86 whaling has been banned at the international whaling conven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72 the Marine Mammal Protection Act protected all ocean mammals from being hunted, killed, injured or harass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MPA also prevents ships from getting within a certain distance from the wh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91 the united nations banned fishnets and in 1993 gillnets were banned in Hawa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way and Japan constantly wh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ay they whale for food and for money because the poor in their country needs more money, and for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06:08Z</dcterms:created>
  <dc:creator>sasd</dc:creator>
  <dc:description/>
  <dc:language>en-US</dc:language>
  <cp:lastModifiedBy>christopher</cp:lastModifiedBy>
  <dcterms:modified xsi:type="dcterms:W3CDTF">2010-02-23T05:02:15Z</dcterms:modified>
  <cp:revision>21</cp:revision>
  <dc:subject/>
  <dc:title>Christopher Macias</dc:title>
</cp:coreProperties>
</file>